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D52-680C-4F79-A9D5-86128ECD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646-7DF9-4817-BE60-99C3950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38C-5DB5-4CED-8CF7-C3A91E3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19C-61B9-439F-B399-15B3D76B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E15-DF9C-410E-A10F-225F9D76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142-6D5A-4DD7-BA61-6A4377DB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60D-3E05-4ECA-9848-E66F249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A5D-624F-4266-BEE3-377B9A17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A75-9EF1-4020-9197-06D3A04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A8B-70F5-40FD-B039-C748B0B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336-C467-4074-89D6-3E06AF7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1ED-96A1-42E3-95F1-0E8331A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4C57-87D9-4B4C-9FB6-F2243F7535C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158920" cy="863640"/>
          </a:xfrm>
          <a:prstGeom prst="ellipse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OVI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IGRATO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0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0"/>
            <a:ext cx="1871640" cy="11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ANN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IVERE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 AL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76720" y="404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0"/>
            <a:ext cx="1584360" cy="765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ROV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052640"/>
            <a:ext cx="100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197000"/>
            <a:ext cx="22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UGGIRE 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TUAZ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IFFIC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(ESEMP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GUERRE 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26920" y="83664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1360"/>
            <a:ext cx="1871640" cy="1582920"/>
          </a:xfrm>
          <a:prstGeom prst="rect">
            <a:avLst/>
          </a:prstGeom>
          <a:solidFill>
            <a:srgbClr val="66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SI CHI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Black"/>
              </a:rPr>
              <a:t>E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QUANDO LE PERSONE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UN PAESE SE NE VAN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ALL’ESTERO A VIV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E CERC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7720"/>
            <a:ext cx="1908000" cy="1511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GLI ITALIANI SONO STA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EMIGRANTI IN MOL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PAESI E, ANCHE 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MENO DI UNA VOLTA, 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 Black"/>
              </a:rPr>
              <a:t>SONO ANCHE OG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0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3789360"/>
            <a:ext cx="136836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METE PRINCIPAL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268000" y="4076640"/>
            <a:ext cx="28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4076640"/>
            <a:ext cx="28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076640"/>
            <a:ext cx="360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941720"/>
            <a:ext cx="720720" cy="432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UROP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300640"/>
            <a:ext cx="1008000" cy="865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.S.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229360"/>
            <a:ext cx="1008000" cy="576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765000"/>
            <a:ext cx="1152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1989000"/>
            <a:ext cx="2087640" cy="115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 CHIA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QUANDO IN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AE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RIVANO STRANI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 VIVERE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85264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3500280"/>
            <a:ext cx="1152720" cy="129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RIV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MMIGR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OPRATTU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486900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229360"/>
            <a:ext cx="7189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UR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97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5300640"/>
            <a:ext cx="19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FRICA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8:00:29Z</dcterms:created>
  <dc:creator>informatica20</dc:creator>
  <dc:description/>
  <dc:language>en-US</dc:language>
  <cp:lastModifiedBy>s</cp:lastModifiedBy>
  <dcterms:modified xsi:type="dcterms:W3CDTF">2017-02-13T08:55:37Z</dcterms:modified>
  <cp:revision>4</cp:revision>
  <dc:subject/>
  <dc:title>Diapositiva 1</dc:title>
</cp:coreProperties>
</file>